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B701-451D-4F99-81F8-183D261E4EC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pumAM77iJ8&amp;feature=related" TargetMode="External"/><Relationship Id="rId2" Type="http://schemas.openxmlformats.org/officeDocument/2006/relationships/hyperlink" Target="http://www.youtube.com/watch?v=0eKi_k8y0ik&amp;feature=relmfu" TargetMode="External"/><Relationship Id="rId3" Type="http://schemas.openxmlformats.org/officeDocument/2006/relationships/slide" Target="../slides/slide3.xml"/><Relationship Id="rId4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ff"/>
                </a:solidFill>
                <a:latin typeface="Arial"/>
                <a:ea typeface="Arial"/>
              </a:rPr>
              <a:t>Музыкально-театральные жан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8C3B-0A19-4F75-8060-D50E6C07699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Verdana"/>
              </a:rPr>
              <a:t>"Призрак</a:t>
            </a:r>
            <a:r>
              <a:rPr b="0" i="1" lang="en-US" sz="1200" spc="-1" strike="noStrike">
                <a:solidFill>
                  <a:srgbClr val="ff3300"/>
                </a:solidFill>
                <a:latin typeface="Verdana"/>
              </a:rPr>
              <a:t>    </a:t>
            </a:r>
            <a:r>
              <a:rPr b="0" i="1" lang="ru-RU" sz="1200" spc="-1" strike="noStrike">
                <a:solidFill>
                  <a:srgbClr val="ff3300"/>
                </a:solidFill>
                <a:latin typeface="Verdana"/>
              </a:rPr>
              <a:t>оперы“</a:t>
            </a:r>
            <a:r>
              <a:rPr b="0" i="1" lang="en-US" sz="1200" spc="-1" strike="noStrike">
                <a:solidFill>
                  <a:srgbClr val="ff3300"/>
                </a:solidFill>
                <a:latin typeface="Verdana"/>
              </a:rPr>
              <a:t>                   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 Сотрудничество Сары Брайтмана и Эндрю Ллойд Веббера в "Кошках" привело к их свадьбе в 1984 году. Для супруги композитор  и задумал создать новый мюзикл, коим и стал "Призрак оперы"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омантическая, но мрачная история рассказывает о живущем в подземелье под Парижской оперой загадочном существе со сверхъестественными способностями. Главная роль в постановке досталась, конечно же, Саре Брайтман. Премьера "Призрака оперы" состоялась 9 октября 1986 в Королевском театре, на ней присутствовали даже члены семьи Ее Величества. А в январе 1988 года состоялась и первая бродвейская постановка мюзикла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"Призрак оперы" стал вторым по длительности демонстрации мюзиклом за всю историю Бродвея, после "Кошек". В итоге только в Нью-Йорке шоу посмотрело около 11 миллионов человек. Мюзикл был поставлен в 18 странах, дано было около 65 тысяч представлений, там его посмотрело более чем 58 миллионов человек, а общее число зрителей по всему миру превысило уже 80 миллионов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http://www.youtube.com/watch?v=bVU2oGQ4w_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http://www.youtube.com/watch?NR=1&amp;v=mON5dbdm63M&amp;feature=end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C378-D3D7-4118-BD91-53CBF894FAE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конце 60-х годов XX века начинается пересмотр мюзикла как жанра. Ведь появляются новые музыкальные веяния и течения - например, становится популярной рок-музыка. Итак, именно в это время зарождается такая разновидность мюзикла, как рок-опера (rock opera). Этот термин изобрёл Пит Тауншенд, лидер рок-группы The Who, выпустившей в 1969 году пластинку "Томми" (Tommy) и указавшей на её обложке в качестве жанра "Rock opera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още говоря (языком Википедии), рок-опера - это "мюзикл, музыкально-сценический жанр, использующий структурные принципы традиционной оперы (сюжетная связность элементов) в сочетании со стилистикой рока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так, жанр усложняется, в связи с чем в 70-х годах сокращается количество постановок, однако декорации и костюмы новых мюзиклов становятся более роскошными. Одним из серьёзных переломных моментов стало написание рок-оперы "Иисус Христос суперзвезда" (Jesus Christ Superstar, 1971 год) композитора Эндрю Ллойда Уэббера и либреттиста Тима Райса. Именно на это гениальнейшее произведение с тех пор равняются многие авторы - отголоски "Суперзвезды" слышны почти в каждой рок-опе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30C9-21A3-4ECA-BE67-7BFBD6BB96E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ru-RU" sz="1200" spc="-1" strike="noStrike">
                <a:solidFill>
                  <a:srgbClr val="ff3300"/>
                </a:solidFill>
                <a:latin typeface="Verdana"/>
              </a:rPr>
              <a:t>Иисус Христос - суперзвезда".</a:t>
            </a:r>
            <a:r>
              <a:rPr b="0" i="1" lang="en-US" sz="1200" spc="-1" strike="noStrike">
                <a:solidFill>
                  <a:srgbClr val="ff33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узыка для произведения была написана легендарным Эндрю Ллойд Вебером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Здесь рок-музыка соединилась с классической историей, в текстах используется современная лексика, а вся история рассказывается исключительно с помощью песен. Все это сделало "Иисуса Христа - суперзвезду" суперхитом. Повествование идет о последних семи днях жизни Иисуса, которые проходят перед глазами Иуды Искариота, разочарованным учением Христа. Сюжет начинается с момента въезда Иисуса в Иерусалим и заканчивается казнью святого.  В 1971 году мюзикл появился на Бродвее. Многие отмечают, что в постановке Иисус изображается в виде первого хиппи на планете.  По мотивам произведения, как водится, был снят и художественный фильм. Оскар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1973 году за лучшую музыку достался именно этому произведению. Фильм интересен не только отличной музыкой и вокалом, но и необычной трактовкой темы Иисуса. Этот мюзикл часто именуют также и рок-оперой, произведение породило множество споров и стало культовым для поколения хиппи. "Иисус Христос - суперзвезда" является актуальным и сегодня, он переведен на многие языки. Вот уже более 30 лет мюзикл ставится по всему свету - на сценах Австралии, Японии, Франции и Мексики, Чили и Германии, Великобритании и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98B8-E5A9-444C-83A5-9FAB9A72D1D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актическая работа по теме «Музыкально – театральные жан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http://www.youtube.com/watch?v=IKSZ5DSFj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берись терпения, посмотри и прослушай современную версию «Иисус  Христос  суперзвезда» с исполнением на русском языке! Я понимаю, что для некоторых это будет нелегко, потому что фильм длинный (1час 40 минут) и это,(ужас!!!) все время музыка!!! Но, попробуй, посмотри его как библейский «триллер» о последних днях жизни Иису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4AA5-9A39-4B92-AA08-EDAD9264BB4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еретта – это музыкально театральный жанр. Само слово «оперетта» в переводе с итальянского языка означает «маленькая опера». Уже из перевода становится понятно, что от обычной оперы оперетта практически не отличается. Это такое же сочетание вокальной и инструментальной музыки и театрального предст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еретта носит легкий, развлекательный характер, она никогда не может быть трагедией, чаще всего оперетта - это пародия. Хоть в оперетте присутствуют арии, дуэты, сцены хора и сольные партии отдельных инструментов, исполняют они несложные партии, чаще всего танцевального или песенного характера. 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3268-C621-4413-82DF-5B589723045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лавное отличие оперетты от оперы – танец. Если в опере мы никогда не сможем увидеть танец, то в оперетте каждое действие обязательно должно заканчиваться танцем. Как правило, кордебалет (группа танцоров) показывает самый популярный танец своего времени, таким образом, можно сразу определить в какое время и в какой стране была написана оперетта. Еще одно отличие маленькой оперы от ее «старшей сестры» - все вокальные партии написаны в песенно-куплетном жанре. Это связано с развлекательным характером оперетты, куплетные песни гораздо легче воспринимаются слуша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ре Кальман «Принцесса цир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http://www.youtube.com/watch?v=wpumAM77iJ8&amp;feature=re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http://www.youtube.com/watch?v=0eKi_k8y0ik&amp;feature=relmf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http://www.youtube.com/watch?v=xGYvaXu0fD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Жак Оффенбах «Орфей в аду» Канк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http://www.youtube.com/watch?v=q8uesMKJT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183C-6375-43B4-9047-C7AB818204B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ffff"/>
                </a:solidFill>
                <a:latin typeface="Arial"/>
                <a:ea typeface="Arial"/>
              </a:rPr>
              <a:t>Знаменитые создатели оперет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C567-8389-47EA-B205-D556267FC22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юзикл (иногда называется музыкальной комедией) — музыкально-сценическое произведение, в котором переплетаются диалоги, песни, музыка, танцы, при этом сюжет, как правило, незамысловат. Большое влияние на мюзикл оказали многие жанры: оперетта, комическая опера, водевиль. Как отдельный жанр театрального искусства долгое время не признавался и до сих пор признается не все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юзикл — постановочный жанр, работа над каждым проектом начинается с написания пьесы. Постановка пьесы осуществляется режиссёром-постановщиком. В постановке также могут участвовать балетмейстеры, специалисты по п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юзикл — один из наиболее коммерческих жанров театра. Это обусловлено его зрелищностью, разнообразием тем для постановки, неограниченностью в выборе средств выражения для актё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 постановке мюзиклов часто используются массовые сцены с пением и танцами, нередко применяются различные спец. эффек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9556-BA25-44AF-B856-897F0FAC6DF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"Моя прекрасная леди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CBC0-2A24-45C8-861B-ED7193B4FF2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Шоу сразу же завоевало бешеную популярность, билеты на него были распроданы на полгода вперед. Это оказалось для создателей самой настоящей неожиданностью. В итоге на Бродвее представление давалось 2717 раз, а в Лондоне - 2281. Мюзикл был переведен на одиннадцать языков и прошел в более чем двадцати странах. "Моя прекрасная леди" получила наград "Тони". Всего было продано более 5 миллионов записей мюзикла с первоначальным бродвейским составом. В 1964 году на экраны вышел одноименный фильм, за право экранизировать мюзикл боссы Warner Brothers заплатили рекордные на тот момент 5,5 миллионов долларов. Элизу сыграла Одри Хепберн, а Рекс Харрисон стал ее партнером, перебравшись в кино с театральных подмостков. И успех фильма стал ошеломляющим - он был номинирован на 12 Оскаров и получил 8 из них. Мюзикл настолько любим зрителями, что его и сейчас можно посмотреть в Лондо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Verdana"/>
              </a:rPr>
              <a:t>"Кошки“</a:t>
            </a:r>
            <a:r>
              <a:rPr b="0" i="1" lang="en-US" sz="1200" spc="-1" strike="noStrike">
                <a:solidFill>
                  <a:srgbClr val="ff3300"/>
                </a:solidFill>
                <a:latin typeface="Verdana"/>
              </a:rPr>
              <a:t>                  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 Основой для этого популярного мюзикла послужил цикл детских стихов "Книга старого Опоссума о практичных кошках", . В сборнике рассказывалось с иронией о привычках и повадках кошках, но за этими чертами без труда угадывались человеческие черты. Стихи  приглянулись Эндрю  Ллойду  Уэбберу, который на протяжении 70-х годов сочинял к ним неспешно музы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2937-A71A-46FA-B626-CBE60A7A890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http://www.youtube.com/watch?v=LI1DMZ6J_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63BA-4B3B-4929-B60F-A9C4145601E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 вот, к 1980 году, композитор собрал достаточно материала, чтобы трансформировать его в мюзикл. Так как англичане очень любят кошек, шоу у них просто таки было обречено на успех. В "Кошках" к артистам предъявлялись особые требования - мало было хорошо петь и четко говорить, надо было еще и быть очень пластичными. Актеры</a:t>
            </a:r>
            <a:r>
              <a:rPr b="0" i="1" lang="et-EE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 помощью сложного многослойного грима предстают в виде грациозных кошек.  Мюзикл впервые предстал перед глазами публики 11 мая 1981 года в Лондоне, а на Бродвей попал спустя год.</a:t>
            </a:r>
            <a:r>
              <a:rPr b="0" i="1" lang="et-E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Всего было дано 6400 представлений, постановку увидело более 8 миллионов человек, а создатели смогли заработать около 136 миллионов фунтов стерлингов. Да и в Штатах мюзикл побил все возможные рекорды. Уже в 1997 году число представлений превысило 6100, что позволило назвать представление главным бродвейским долгожителем. В итоге за все время  суммарное число зрителей в 30 странах превысило 50 миллионов, песни прозвучали на 14 языках, а общая сумма сборов составила 2,2 миллиарда долл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8280-4306-4ECD-A4A9-CE6A5819754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1C485-11DD-421F-BD1D-8322ED99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28215-8431-43F5-B89A-148A18A5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0E79E-6214-495D-9089-90414EFDF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FE609-58D7-4295-B53A-2B6B1E4E3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1858-49EA-4086-ADA6-79F58C1A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EFE3-32C8-4F92-9110-95EABCFF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1798-ABFC-4BBE-9E2B-D6879CCC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8B80-9F9F-4770-B0B6-27C646A2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ADB2-16F9-4E56-97B5-E51E139A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E031-2BC1-47A6-81C9-5EB4961A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BD39-B65E-42B2-9EAD-D4057503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DB42D-EA3A-4FD1-87B9-2CC2D9B4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10E3-00AE-4D1B-833D-A8CD900A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AF33-A5D4-4B67-9887-F5EE8A36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391A-BFA2-4EC9-AAE5-BB2707FA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94B0-FE77-4631-9059-7E9071D62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AFFE-BCB1-4013-B9BA-01208D8C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03184-DF56-46AE-B5BC-66158DA3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EEB92-A6DF-4C39-8961-9900D6CF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C5329-D659-415D-8B5E-0F61BDB2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35107-45EC-4145-9564-F27A7AE2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383C3-19DD-4DC7-B203-56D6E54A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D5A89-6979-4C8E-BFFD-5E4FCB4D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9BE12-1DCF-4854-A4D2-4A5AFB2B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4f62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f526e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FC56-FB71-47B3-894C-544556392431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4f62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f526e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950B-5E04-4A4B-8D62-E2A8BBE772F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VU2oGQ4w_8" TargetMode="External"/><Relationship Id="rId2" Type="http://schemas.openxmlformats.org/officeDocument/2006/relationships/hyperlink" Target="http://www.youtube.com/watch?NR=1&amp;v=mON5dbdm63M&amp;feature=endscreen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KSZ5DSFjf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pumAM77iJ8&amp;feature=related" TargetMode="External"/><Relationship Id="rId2" Type="http://schemas.openxmlformats.org/officeDocument/2006/relationships/hyperlink" Target="http://www.youtube.com/watch?v=0eKi_k8y0ik&amp;feature=relmfu" TargetMode="External"/><Relationship Id="rId3" Type="http://schemas.openxmlformats.org/officeDocument/2006/relationships/hyperlink" Target="http://www.youtube.com/watch?v=xGYvaXu0fD4" TargetMode="External"/><Relationship Id="rId4" Type="http://schemas.openxmlformats.org/officeDocument/2006/relationships/hyperlink" Target="http://www.youtube.com/watch?v=q8uesMKJTow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youtube.com/watch?v=YEcX9gNVg1U" TargetMode="External"/><Relationship Id="rId4" Type="http://schemas.openxmlformats.org/officeDocument/2006/relationships/hyperlink" Target="http://www.youtube.com/watch?v=h_Sj9o7DWJU" TargetMode="External"/><Relationship Id="rId5" Type="http://schemas.openxmlformats.org/officeDocument/2006/relationships/hyperlink" Target="http://www.youtube.com/watch?v=SDUaPgAcfb0&amp;feature=related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LI1DMZ6J_RM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1116000" y="189000"/>
            <a:ext cx="7095960" cy="18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Музыкально-театральные жан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34" name="WordArt 5"/>
          <p:cNvSpPr txBox="1"/>
          <p:nvPr/>
        </p:nvSpPr>
        <p:spPr>
          <a:xfrm rot="20241600">
            <a:off x="1116000" y="2565360"/>
            <a:ext cx="2048040" cy="19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Оперет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35" name="WordArt 6"/>
          <p:cNvSpPr txBox="1"/>
          <p:nvPr/>
        </p:nvSpPr>
        <p:spPr>
          <a:xfrm rot="695400">
            <a:off x="6876720" y="2781360"/>
            <a:ext cx="1647720" cy="21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Мюзик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36" name="WordArt 7"/>
          <p:cNvSpPr txBox="1"/>
          <p:nvPr/>
        </p:nvSpPr>
        <p:spPr>
          <a:xfrm>
            <a:off x="3419640" y="4292640"/>
            <a:ext cx="21906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Рок-опе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Verdana"/>
              </a:rPr>
              <a:t>"Призрак</a:t>
            </a: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ff3300"/>
                </a:solidFill>
                <a:latin typeface="Verdana"/>
              </a:rPr>
              <a:t>оперы“</a:t>
            </a: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                                    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 Сотрудничество Сары Брайтмана и Эндрю Ллойд Веббера в "Кошках" привело к их свадьбе в 1984 году. Для супруги композитор  и задумал создать новый мюзикл, коим и стал "Призрак оперы"</a:t>
            </a:r>
            <a:r>
              <a:rPr b="0" i="1" lang="et-EE" sz="20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Романтическая, но мрачная история рассказывает о живущем в подземелье под Парижской оперой загадочном существе со сверхъестественными способностями. Главная роль в постановке досталась, конечно же, Саре Брайтман. Премьера "Призрака оперы" состоялась 9 октября 1986 в Королевском театре, на ней присутствовали даже члены семьи Ее Величества. А в январе 1988 года состоялась и первая бродвейская постановка мюзикла</a:t>
            </a:r>
            <a:r>
              <a:rPr b="0" i="1" lang="et-EE" sz="20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"Призрак оперы" стал вторым по длительности демонстрации мюзиклом за всю историю Бродвея, после "Кошек". В итоге только в Нью-Йорке шоу посмотрело около 11 миллионов человек. Мюзикл был поставлен в 18 странах, дано было около 65 тысяч представлений, там его посмотрело более чем 58 миллионов человек, а общее число зрителей по всему миру превысило уже 80 миллионов</a:t>
            </a:r>
            <a:r>
              <a:rPr b="0" i="1" lang="et-EE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1"/>
              </a:rPr>
              <a:t>http://www.youtube.com/watch?v=bVU2oGQ4w_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Tahoma"/>
                <a:hlinkClick r:id="rId2"/>
              </a:rPr>
              <a:t>http://www.youtube.com/watch?NR=1&amp;v=mON5dbdm63M&amp;feature=endscre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3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3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7" descr="Sarah Brightman"/>
          <p:cNvPicPr/>
          <p:nvPr/>
        </p:nvPicPr>
        <p:blipFill>
          <a:blip r:embed="rId1"/>
          <a:stretch/>
        </p:blipFill>
        <p:spPr>
          <a:xfrm rot="1060200">
            <a:off x="5940360" y="1267920"/>
            <a:ext cx="2819520" cy="4286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Sarah Brightman"/>
          <p:cNvPicPr/>
          <p:nvPr/>
        </p:nvPicPr>
        <p:blipFill>
          <a:blip r:embed="rId2"/>
          <a:stretch/>
        </p:blipFill>
        <p:spPr>
          <a:xfrm rot="20713800">
            <a:off x="539640" y="765000"/>
            <a:ext cx="3048120" cy="2886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File:Upiorwoperze ALWebber.jpg"/>
          <p:cNvPicPr/>
          <p:nvPr/>
        </p:nvPicPr>
        <p:blipFill>
          <a:blip r:embed="rId3"/>
          <a:stretch/>
        </p:blipFill>
        <p:spPr>
          <a:xfrm rot="20971200">
            <a:off x="2123640" y="3357360"/>
            <a:ext cx="3888000" cy="28098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В конце 60-х годов XX века начинается пересмотр мюзикла как жанра. Ведь появляются новые музыкальные веяния и течения - например, становится популярной рок-музыка. Итак, именно в это время зарождается такая разновидность мюзикла, как рок-опера (rock opera). Этот термин изобрёл Пит Тауншенд, лидер рок-группы The Who, выпустившей в 1969 году пластинку "Томми" (Tommy) и указавшей на её обложке в качестве жанра "Rock opera"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Проще говоря (языком Википедии), рок-опера - это "мюзикл, музыкально-сценический жанр, использующий структурные принципы традиционной оперы (сюжетная связность элементов) в сочетании со стилистикой рока"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Итак, жанр усложняется, в связи с чем в 70-х годах сокращается количество постановок, однако декорации и костюмы новых мюзиклов становятся более роскошными. Одним из серьёзных переломных моментов стало написание рок-оперы "Иисус Христос суперзвезда" (Jesus Christ Superstar, 1971 год) композитора Эндрю Ллойда Уэббера и либреттиста Тима Райса. Именно на это гениальнейшее произведение с тех пор равняются многие авторы - отголоски "Суперзвезды" слышны почти в каждой рок-опер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3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3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3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i="1" lang="ru-RU" sz="1800" spc="-1" strike="noStrike">
                <a:solidFill>
                  <a:srgbClr val="ff3300"/>
                </a:solidFill>
                <a:latin typeface="Verdana"/>
              </a:rPr>
              <a:t>Иисус Христос - суперзвезда".</a:t>
            </a:r>
            <a:r>
              <a:rPr b="0" i="1" lang="en-US" sz="1800" spc="-1" strike="noStrike">
                <a:solidFill>
                  <a:srgbClr val="ff33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Музыка для произведения была написана легендарным Эндрю Ллойд Вебером</a:t>
            </a:r>
            <a:r>
              <a:rPr b="0" i="1" lang="et-EE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Здесь рок-музыка соединилась с классической историей, в текстах используется современная лексика, а вся история рассказывается исключительно с помощью песен. Все это сделало "Иисуса Христа - суперзвезду" суперхитом. Повествование идет о последних семи днях жизни Иисуса, которые проходят перед глазами Иуды Искариота, разочарованным учением Христа. Сюжет начинается с момента въезда Иисуса в Иерусалим и заканчивается казнью святого.  В 1971 году мюзикл появился на Бродвее. Многие отмечают, что в постановке Иисус изображается в виде первого хиппи на планете.  По мотивам произведения, как водится, был снят и художественный фильм. Оскар</a:t>
            </a:r>
            <a:r>
              <a:rPr b="0" i="1" lang="et-EE" sz="1800" spc="-1" strike="noStrike">
                <a:solidFill>
                  <a:srgbClr val="ffffff"/>
                </a:solidFill>
                <a:latin typeface="Verdana"/>
              </a:rPr>
              <a:t> в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1973 году за лучшую музыку достался именно этому произведению. Фильм интересен не только отличной музыкой и вокалом, но и необычной трактовкой темы Иисуса. Этот мюзикл часто именуют также и рок-оперой, произведение породило множество споров и стало культовым для поколения хиппи. "Иисус Христос - суперзвезда" является актуальным и сегодня, он переведен на многие языки. Вот уже более 30 лет мюзикл ставится по всему свету - на сценах Австралии, Японии, Франции и Мексики, Чили и Германии, Великобритании и СШ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755640" y="566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3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3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Практическая работа по теме «Музыкально – театральные жанр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1"/>
              </a:rPr>
              <a:t>http://www.youtube.com/watch?v=IKSZ5DSFjf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Наберись терпения, посмотри и прослушай современную версию «Иисус  Христос  суперзвезда» с исполнением на русском языке! Я понимаю, что для некоторых это будет нелегко, потому что фильм длинный (1час 40 минут) и это,(ужас!!!) все время музыка!!! Но, попробуй, посмотри его как библейский «триллер» о последних днях жизни Иисус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Оперетта – это музыкально театральный жанр. Само слово «оперетта» в переводе с итальянского языка означает «маленькая опера». Уже из перевода становится понятно, что от обычной оперы оперетта практически не отличается. Это такое же сочетание вокальной и инструментальной музыки и театрального представл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Оперетта носит легкий, развлекательный характер, она никогда не может быть трагедией, чаще всего оперетта - это пародия. Хоть в оперетте присутствуют арии, дуэты, сцены хора и сольные партии отдельных инструментов, исполняют они несложные партии, чаще всего танцевального или песенного характера. 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Главное отличие оперетты от оперы – танец. Если в опере мы никогда не сможем увидеть танец, то в оперетте каждое действие обязательно должно заканчиваться танцем. Как правило, кордебалет (группа танцоров) показывает самый популярный танец своего времени, таким образом, можно сразу определить в какое время и в какой стране была написана оперетта. Еще одно отличие маленькой оперы от ее «старшей сестры» - все вокальные партии написаны в песенно-куплетном жанре. Это связано с развлекательным характером оперетты, куплетные песни гораздо легче воспринимаются слушателя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Имре Кальман «Принцесса цирк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1"/>
              </a:rPr>
              <a:t>http://www.youtube.com/watch?v=wpumAM77iJ8&amp;feature=rela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2"/>
              </a:rPr>
              <a:t>http://www.youtube.com/watch?v=0eKi_k8y0ik&amp;feature=relmf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Verdana"/>
                <a:hlinkClick r:id="rId3"/>
              </a:rPr>
              <a:t>http://www.youtube.com/watch?v=xGYvaXu0fD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Жак Оффенбах «Орфей в аду» Канк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4"/>
              </a:rPr>
              <a:t>http://www.youtube.com/watch?v=q8uesMKJTo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22595890"/>
          <p:cNvPicPr/>
          <p:nvPr/>
        </p:nvPicPr>
        <p:blipFill>
          <a:blip r:embed="rId1"/>
          <a:stretch/>
        </p:blipFill>
        <p:spPr>
          <a:xfrm rot="20364000">
            <a:off x="611280" y="980640"/>
            <a:ext cx="2292120" cy="302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1907"/>
          <p:cNvPicPr/>
          <p:nvPr/>
        </p:nvPicPr>
        <p:blipFill>
          <a:blip r:embed="rId2"/>
          <a:stretch/>
        </p:blipFill>
        <p:spPr>
          <a:xfrm rot="1218600">
            <a:off x="5940000" y="980640"/>
            <a:ext cx="2879640" cy="2747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kalman"/>
          <p:cNvPicPr/>
          <p:nvPr/>
        </p:nvPicPr>
        <p:blipFill>
          <a:blip r:embed="rId3"/>
          <a:stretch/>
        </p:blipFill>
        <p:spPr>
          <a:xfrm>
            <a:off x="3203640" y="2781360"/>
            <a:ext cx="2508120" cy="3168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2"/>
          <p:cNvSpPr/>
          <p:nvPr/>
        </p:nvSpPr>
        <p:spPr>
          <a:xfrm rot="20263800">
            <a:off x="979560" y="4220640"/>
            <a:ext cx="19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Жак Оффенба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13"/>
          <p:cNvSpPr/>
          <p:nvPr/>
        </p:nvSpPr>
        <p:spPr>
          <a:xfrm rot="1315200">
            <a:off x="6513480" y="4149360"/>
            <a:ext cx="212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Иоганн Штрау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2134800" y="6093000"/>
            <a:ext cx="19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Имре Кальм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WordArt 16"/>
          <p:cNvSpPr txBox="1"/>
          <p:nvPr/>
        </p:nvSpPr>
        <p:spPr>
          <a:xfrm>
            <a:off x="971640" y="333360"/>
            <a:ext cx="7439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Знаменитые создатели оперет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Мюзикл (иногда называется музыкальной комедией) — музыкально-сценическое произведение, в котором переплетаются диалоги, песни, музыка, танцы, при этом сюжет, как правило, незамысловат. Большое влияние на мюзикл оказали многие жанры: оперетта, комическая опера, водевиль. Как отдельный жанр театрального искусства долгое время не признавался и до сих пор признается не все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Мюзикл — постановочный жанр, работа над каждым проектом начинается с написания пьесы. Постановка пьесы осуществляется режиссёром-постановщиком. В постановке также могут участвовать балетмейстеры, специалисты по пен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Мюзикл — один из наиболее коммерческих жанров театра. Это обусловлено его зрелищностью, разнообразием тем для постановки, неограниченностью в выборе средств выражения для актёр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При постановке мюзиклов часто используются массовые сцены с пением и танцами, нередко применяются различные спец. эффек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3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Tahoma"/>
              </a:rPr>
              <a:t>"Моя прекрасная леди"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WordArt 4"/>
          <p:cNvSpPr txBox="1"/>
          <p:nvPr/>
        </p:nvSpPr>
        <p:spPr>
          <a:xfrm>
            <a:off x="1258920" y="189000"/>
            <a:ext cx="61437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Comic Sans MS"/>
              </a:rPr>
              <a:t>Самые известные мюзикл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Comic Sans MS"/>
              <a:ea typeface="Comic Sans MS"/>
            </a:endParaRPr>
          </a:p>
        </p:txBody>
      </p:sp>
      <p:pic>
        <p:nvPicPr>
          <p:cNvPr id="157" name="Picture 6" descr="Моя прекрасная леди"/>
          <p:cNvPicPr/>
          <p:nvPr/>
        </p:nvPicPr>
        <p:blipFill>
          <a:blip r:embed="rId1"/>
          <a:stretch/>
        </p:blipFill>
        <p:spPr>
          <a:xfrm rot="20929200">
            <a:off x="611280" y="1916280"/>
            <a:ext cx="3843360" cy="2882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pic2819_bf6108"/>
          <p:cNvPicPr/>
          <p:nvPr/>
        </p:nvPicPr>
        <p:blipFill>
          <a:blip r:embed="rId2"/>
          <a:stretch/>
        </p:blipFill>
        <p:spPr>
          <a:xfrm rot="707400">
            <a:off x="6011640" y="1915920"/>
            <a:ext cx="2919240" cy="3600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9"/>
          <p:cNvSpPr/>
          <p:nvPr/>
        </p:nvSpPr>
        <p:spPr>
          <a:xfrm>
            <a:off x="6586560" y="5950080"/>
            <a:ext cx="2332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Фредерик Лоу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 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41480" y="5373720"/>
            <a:ext cx="54673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ccff"/>
                </a:solidFill>
                <a:uFillTx/>
                <a:latin typeface="Tahoma"/>
                <a:hlinkClick r:id="rId3"/>
              </a:rPr>
              <a:t>http://www.youtube.com/watch?v=YEcX9gNVg1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324000" y="5950080"/>
            <a:ext cx="70563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ccff"/>
                </a:solidFill>
                <a:uFillTx/>
                <a:latin typeface="Tahoma"/>
                <a:hlinkClick r:id="rId4"/>
              </a:rPr>
              <a:t>http://www.youtube.com/watch?v=h_Sj9o7DWJ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202680" y="6324480"/>
            <a:ext cx="72673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ccff"/>
                </a:solidFill>
                <a:uFillTx/>
                <a:latin typeface="Tahoma"/>
                <a:hlinkClick r:id="rId5"/>
              </a:rPr>
              <a:t>http://www.youtube.com/watch?v=SDUaPgAcfb0&amp;feature=rel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3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3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3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Шоу сразу же завоевало бешеную популярность, билеты на него были распроданы на полгода вперед. Это оказалось для создателей самой настоящей неожиданностью. В итоге на Бродвее представление давалось 2717 раз, а в Лондоне - 2281. Мюзикл был переведен на одиннадцать языков и прошел в более чем двадцати странах. "Моя прекрасная леди" получила наград "Тони". Всего было продано более 5 миллионов записей мюзикла с первоначальным бродвейским составом. В 1964 году на экраны вышел одноименный фильм, за право экранизировать мюзикл боссы Warner Brothers заплатили рекордные на тот момент 5,5 миллионов долларов. Элизу сыграла Одри Хепберн, а Рекс Харрисон стал ее партнером, перебравшись в кино с театральных подмостков. И успех фильма стал ошеломляющим - он был номинирован на 12 Оскаров и получил 8 из них. Мюзикл настолько любим зрителями, что его и сейчас можно посмотреть в Лондон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Verdana"/>
              </a:rPr>
              <a:t>"Кошки“</a:t>
            </a: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                                   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 Основой для этого популярного мюзикла послужил цикл детских стихов "Книга старого Опоссума о практичных кошках", . В сборнике рассказывалось с иронией о привычках и повадках кошках, но за этими чертами без труда угадывались человеческие черты. Стихи  приглянулись Эндрю  Ллойду  Уэбберу, который на протяжении 70-х годов сочинял к ним неспешно музы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3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5373360"/>
            <a:ext cx="820872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1"/>
              </a:rPr>
              <a:t>http://www.youtube.com/watch?v=LI1DMZ6J_R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5" descr="0153_101"/>
          <p:cNvPicPr/>
          <p:nvPr/>
        </p:nvPicPr>
        <p:blipFill>
          <a:blip r:embed="rId2"/>
          <a:stretch/>
        </p:blipFill>
        <p:spPr>
          <a:xfrm rot="20801400">
            <a:off x="395280" y="404280"/>
            <a:ext cx="3960720" cy="28832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 rot="20658000">
            <a:off x="339480" y="3499560"/>
            <a:ext cx="286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Эндрю Ллойд Уэббер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9" descr="ANd9GcT-1mPoX4VBgI8RRxWMaQoCylrBSMDfBnkhANFbOaxR0s8Ln1SenXku9A_H"/>
          <p:cNvPicPr/>
          <p:nvPr/>
        </p:nvPicPr>
        <p:blipFill>
          <a:blip r:embed="rId3"/>
          <a:stretch/>
        </p:blipFill>
        <p:spPr>
          <a:xfrm rot="1407600">
            <a:off x="4716000" y="765000"/>
            <a:ext cx="4067280" cy="2706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griz01"/>
          <p:cNvPicPr/>
          <p:nvPr/>
        </p:nvPicPr>
        <p:blipFill>
          <a:blip r:embed="rId4"/>
          <a:stretch/>
        </p:blipFill>
        <p:spPr>
          <a:xfrm>
            <a:off x="3419640" y="3284640"/>
            <a:ext cx="3619440" cy="244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2"/>
          <p:cNvSpPr/>
          <p:nvPr/>
        </p:nvSpPr>
        <p:spPr>
          <a:xfrm>
            <a:off x="6921360" y="179280"/>
            <a:ext cx="96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Tahoma"/>
              </a:rPr>
              <a:t>Кош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3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560" y="260280"/>
            <a:ext cx="84358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И вот, к 1980 году, композитор собрал достаточно материала, чтобы трансформировать его в мюзикл. Так как англичане очень любят кошек, шоу у них просто таки было обречено на успех. В "Кошках" к артистам предъявлялись особые требования - мало было хорошо петь и четко говорить, надо было еще и быть очень пластичными. Актеры</a:t>
            </a:r>
            <a:r>
              <a:rPr b="0" i="1" lang="et-EE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с помощью сложного многослойного грима предстают в виде грациозных кошек.  Мюзикл впервые предстал перед глазами публики 11 мая 1981 года в Лондоне, а на Бродвей попал спустя год.</a:t>
            </a:r>
            <a:r>
              <a:rPr b="0" i="1" lang="et-EE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Всего было дано 6400 представлений, постановку увидело более 8 миллионов человек, а создатели смогли заработать около 136 миллионов фунтов стерлингов. Да и в Штатах мюзикл побил все возможные рекорды. Уже в 1997 году число представлений превысило 6100, что позволило назвать представление главным бродвейским долгожителем. В итоге за все время  суммарное число зрителей в 30 странах превысило 50 миллионов, песни прозвучали на 14 языках, а общая сумма сборов составила 2,2 миллиарда доллар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3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11:11:57Z</dcterms:created>
  <dc:creator>Тулубьев</dc:creator>
  <dc:description/>
  <dc:language>en-US</dc:language>
  <cp:lastModifiedBy>LEGION</cp:lastModifiedBy>
  <dcterms:modified xsi:type="dcterms:W3CDTF">2015-04-02T07:23:23Z</dcterms:modified>
  <cp:revision>10</cp:revision>
  <dc:subject/>
  <dc:title>Музыкально-театральные жанры</dc:title>
</cp:coreProperties>
</file>